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71D-92F5-4E54-8B56-9AB4DB2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EDD-A155-40BA-92CE-9455F74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E61-F72F-4248-89B4-2B5C4B3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0CB-1975-4751-B7DE-04DFC16F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C2E7-C6CD-4D01-BC42-E9CCFC44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714B-A680-4921-88A2-26CEB1E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23D-D961-4669-8FDD-3FBA37E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CB33-0B4C-4464-ADB0-0778DDD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AEF5-CCBC-4B13-906D-8CD3A0BD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A102-F091-4213-806B-7C9B3726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226-59C2-4D77-A76F-9022657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050-EFC8-4BB2-B497-A5015D4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88B-6773-478E-807E-79A714F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324-88D3-495C-8145-AD2F263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25C-B419-40E3-B683-761537B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5A1-4B32-4578-8C86-FCBC1DF7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00A-7175-4926-9217-E2B5BCA7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62D-65BA-4ED6-A212-53146F11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959-1065-470C-8EDF-5BB403F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35E-DD7D-4290-852D-6A40B60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71-945B-458B-8739-2DE309E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7E1-7147-4805-AD9F-C7374D6F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66A-1BEF-46EA-B22B-2704E26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A60-3BA1-49DA-9931-505DE97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AE5-0F5B-4957-9CCF-3CECEF9FBF4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205-416A-40D8-A394-02FD1729F7B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zoloft.com/default.asp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1c62"/>
                </a:solidFill>
                <a:latin typeface="Times New Roman"/>
              </a:rPr>
              <a:t>Mood Disorders</a:t>
            </a:r>
            <a:endParaRPr b="0" lang="en-US" sz="6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Depression &amp; Bipolar Disorder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posterboy-flesh" descr=""/>
          <p:cNvPicPr/>
          <p:nvPr/>
        </p:nvPicPr>
        <p:blipFill>
          <a:blip r:embed="rId1"/>
          <a:srcRect l="1114" t="21567" r="16012" b="11933"/>
          <a:stretch/>
        </p:blipFill>
        <p:spPr>
          <a:xfrm>
            <a:off x="2133720" y="228600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1c62"/>
                </a:solidFill>
                <a:latin typeface="Times New Roman"/>
              </a:rPr>
              <a:t>Medication &amp; Depression</a:t>
            </a:r>
            <a:endParaRPr b="0" lang="en-US" sz="4800" spc="-1" strike="noStrike">
              <a:solidFill>
                <a:srgbClr val="061c62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1066680"/>
            <a:ext cx="7923960" cy="2209320"/>
            <a:chOff x="304920" y="1066680"/>
            <a:chExt cx="7923960" cy="2209320"/>
          </a:xfrm>
        </p:grpSpPr>
        <p:sp>
          <p:nvSpPr>
            <p:cNvPr id="131" name=""/>
            <p:cNvSpPr/>
            <p:nvPr/>
          </p:nvSpPr>
          <p:spPr>
            <a:xfrm>
              <a:off x="304920" y="1066680"/>
              <a:ext cx="64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04920" y="1066680"/>
              <a:ext cx="7923960" cy="2209320"/>
              <a:chOff x="304920" y="1066680"/>
              <a:chExt cx="7923960" cy="2209320"/>
            </a:xfrm>
          </p:grpSpPr>
          <p:sp>
            <p:nvSpPr>
              <p:cNvPr id="133" name=""/>
              <p:cNvSpPr/>
              <p:nvPr/>
            </p:nvSpPr>
            <p:spPr>
              <a:xfrm>
                <a:off x="304920" y="1066680"/>
                <a:ext cx="5783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920" y="1066680"/>
                <a:ext cx="7923960" cy="22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2d2525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enerally, all medicines for depression should be taken for 6 months to 1 year. </a:t>
                </a:r>
                <a:endParaRPr b="0" lang="en-US" sz="4000" spc="-1" strike="noStrike">
                  <a:solidFill>
                    <a:srgbClr val="2d2525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2d2525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o prevent depression from coming back, people should keep taking their medicine for at least 4 to 9 months after they feel better.</a:t>
                </a:r>
                <a:br>
                  <a:rPr sz="4000"/>
                </a:b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n13m" descr="Depression prayer"/>
          <p:cNvPicPr/>
          <p:nvPr/>
        </p:nvPicPr>
        <p:blipFill>
          <a:blip r:embed="rId1"/>
          <a:stretch/>
        </p:blipFill>
        <p:spPr>
          <a:xfrm>
            <a:off x="228600" y="0"/>
            <a:ext cx="7391520" cy="6824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353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pression Prayer”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wofthejunglem" descr="Law of the jungle"/>
          <p:cNvPicPr/>
          <p:nvPr/>
        </p:nvPicPr>
        <p:blipFill>
          <a:blip r:embed="rId1"/>
          <a:stretch/>
        </p:blipFill>
        <p:spPr>
          <a:xfrm>
            <a:off x="0" y="-22320"/>
            <a:ext cx="8001000" cy="6880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47960" y="304560"/>
            <a:ext cx="3276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w of the Jungle”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1c62"/>
                </a:solidFill>
                <a:latin typeface="Times New Roman"/>
              </a:rPr>
              <a:t>Bipolar Disorder</a:t>
            </a:r>
            <a:endParaRPr b="0" lang="en-US" sz="6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525"/>
                </a:solidFill>
                <a:latin typeface="Times New Roman"/>
              </a:rPr>
              <a:t>Involves a cycle of mood changes from depression to wild elation and back again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1c62"/>
                </a:solidFill>
                <a:latin typeface="Times New Roman"/>
              </a:rPr>
              <a:t>Depression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525"/>
                </a:solidFill>
                <a:latin typeface="Times New Roman"/>
              </a:rPr>
              <a:t>Typically involves feeling of helplessness, hopelessness, worthlessness, guilt &amp; great sadness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-914400" y="2590920"/>
            <a:ext cx="10810800" cy="1616040"/>
            <a:chOff x="-914400" y="2590920"/>
            <a:chExt cx="10810800" cy="1616040"/>
          </a:xfrm>
        </p:grpSpPr>
        <p:sp>
          <p:nvSpPr>
            <p:cNvPr id="94" name=""/>
            <p:cNvSpPr/>
            <p:nvPr/>
          </p:nvSpPr>
          <p:spPr>
            <a:xfrm>
              <a:off x="-914400" y="259092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914400" y="2590920"/>
              <a:ext cx="108108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  </a:t>
              </a:r>
              <a:r>
                <a:rPr b="0" lang="en-US" sz="10000" spc="-1" strike="noStrike">
                  <a:solidFill>
                    <a:srgbClr val="2d2525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pic>
        <p:nvPicPr>
          <p:cNvPr id="96" name="header_2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63784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012680" y="2873520"/>
            <a:ext cx="7118280" cy="1112760"/>
            <a:chOff x="1012680" y="2873520"/>
            <a:chExt cx="7118280" cy="1112760"/>
          </a:xfrm>
        </p:grpSpPr>
        <p:sp>
          <p:nvSpPr>
            <p:cNvPr id="98" name=""/>
            <p:cNvSpPr/>
            <p:nvPr/>
          </p:nvSpPr>
          <p:spPr>
            <a:xfrm>
              <a:off x="1012680" y="287352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012680" y="2873520"/>
              <a:ext cx="7118280" cy="1112760"/>
              <a:chOff x="1012680" y="2873520"/>
              <a:chExt cx="7118280" cy="1112760"/>
            </a:xfrm>
          </p:grpSpPr>
          <p:sp>
            <p:nvSpPr>
              <p:cNvPr id="100" name=""/>
              <p:cNvSpPr/>
              <p:nvPr/>
            </p:nvSpPr>
            <p:spPr>
              <a:xfrm>
                <a:off x="1012680" y="287352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12680" y="2873520"/>
                <a:ext cx="7118280" cy="11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67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" name="depression_a_medical_condition" descr=""/>
          <p:cNvPicPr/>
          <p:nvPr/>
        </p:nvPicPr>
        <p:blipFill>
          <a:blip r:embed="rId2"/>
          <a:stretch/>
        </p:blipFill>
        <p:spPr>
          <a:xfrm>
            <a:off x="6248520" y="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Major Depression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Most common  psychological disorder affecting more than 100 million people 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525"/>
                </a:solidFill>
                <a:latin typeface="Times New Roman"/>
              </a:rPr>
              <a:t>25% of all women; 12% of all men in the U.S. will experience depression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82760" y="2371680"/>
            <a:ext cx="6378480" cy="2073240"/>
            <a:chOff x="1382760" y="2371680"/>
            <a:chExt cx="6378480" cy="2073240"/>
          </a:xfrm>
        </p:grpSpPr>
        <p:sp>
          <p:nvSpPr>
            <p:cNvPr id="106" name=""/>
            <p:cNvSpPr/>
            <p:nvPr/>
          </p:nvSpPr>
          <p:spPr>
            <a:xfrm>
              <a:off x="1382760" y="237168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382760" y="2371680"/>
              <a:ext cx="5737320" cy="2073240"/>
              <a:chOff x="1382760" y="2371680"/>
              <a:chExt cx="5737320" cy="2073240"/>
            </a:xfrm>
          </p:grpSpPr>
          <p:sp>
            <p:nvSpPr>
              <p:cNvPr id="108" name=""/>
              <p:cNvSpPr/>
              <p:nvPr/>
            </p:nvSpPr>
            <p:spPr>
              <a:xfrm>
                <a:off x="1382760" y="237168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82760" y="2371680"/>
                <a:ext cx="5737320" cy="20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130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" name="depression_1_outof_6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DSM-IV diagnoses M.D. when 5 of the following symptoms are met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4719"/>
                </a:solidFill>
                <a:latin typeface="Times New Roman"/>
              </a:rPr>
              <a:t>Persistent depressed mood for most of the day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4719"/>
                </a:solidFill>
                <a:latin typeface="Times New Roman"/>
              </a:rPr>
              <a:t>Loss of interest or pleasure in all, or almost all activities.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ignificant weight loss or gain due to changes in appetite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peeding or slowing down of physical emotional reactions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Sleeping more/less than usual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Fatigue or loss of energy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Feelings of worthlessness or unfounded guilt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Reduced ability to concentrate or make meaningful decisions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Times New Roman"/>
              </a:rPr>
              <a:t>Recurrent thoughts of death or suicide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Other M.D. Symptoms Requirements: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Symptoms must be persistent </a:t>
            </a:r>
            <a:r>
              <a:rPr b="1" lang="en-US" sz="6000" spc="-1" strike="noStrike" u="sng">
                <a:solidFill>
                  <a:srgbClr val="2d2525"/>
                </a:solidFill>
                <a:uFillTx/>
                <a:latin typeface="Times New Roman"/>
              </a:rPr>
              <a:t>for two weeks</a:t>
            </a: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 and </a:t>
            </a:r>
            <a:r>
              <a:rPr b="1" lang="en-US" sz="6000" spc="-1" strike="noStrike" u="sng">
                <a:solidFill>
                  <a:srgbClr val="2d2525"/>
                </a:solidFill>
                <a:uFillTx/>
                <a:latin typeface="Times New Roman"/>
              </a:rPr>
              <a:t>nearly daily</a:t>
            </a:r>
            <a:r>
              <a:rPr b="1" lang="en-US" sz="60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i="1" lang="en-US" sz="6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1c62"/>
                </a:solidFill>
                <a:latin typeface="Times New Roman"/>
              </a:rPr>
              <a:t>Causes of Depression</a:t>
            </a:r>
            <a:endParaRPr b="0" lang="en-US" sz="5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2d2525"/>
                </a:solidFill>
                <a:latin typeface="Arial"/>
                <a:ea typeface="Arial"/>
              </a:rPr>
              <a:t>Depression is a medical condition. 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525"/>
                </a:solidFill>
                <a:latin typeface="Arial"/>
                <a:ea typeface="Arial"/>
              </a:rPr>
              <a:t>Associated with an imbalance of a brain chemical called serotonin which alters the way we see the world and feel</a:t>
            </a:r>
            <a:r>
              <a:rPr b="1" lang="en-US" sz="4400" spc="-1" strike="noStrike">
                <a:solidFill>
                  <a:srgbClr val="2d2525"/>
                </a:solidFill>
                <a:latin typeface="Arial"/>
                <a:ea typeface="Arial"/>
              </a:rPr>
              <a:t>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20800" y="2577960"/>
            <a:ext cx="7502400" cy="1676520"/>
            <a:chOff x="820800" y="2577960"/>
            <a:chExt cx="7502400" cy="1676520"/>
          </a:xfrm>
        </p:grpSpPr>
        <p:sp>
          <p:nvSpPr>
            <p:cNvPr id="120" name=""/>
            <p:cNvSpPr/>
            <p:nvPr/>
          </p:nvSpPr>
          <p:spPr>
            <a:xfrm>
              <a:off x="820800" y="2577960"/>
              <a:ext cx="6378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820800" y="2577960"/>
              <a:ext cx="7502400" cy="1676520"/>
              <a:chOff x="820800" y="2577960"/>
              <a:chExt cx="7502400" cy="1676520"/>
            </a:xfrm>
          </p:grpSpPr>
          <p:sp>
            <p:nvSpPr>
              <p:cNvPr id="122" name=""/>
              <p:cNvSpPr/>
              <p:nvPr/>
            </p:nvSpPr>
            <p:spPr>
              <a:xfrm>
                <a:off x="820800" y="2577960"/>
                <a:ext cx="57373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20800" y="2577960"/>
                <a:ext cx="75024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  </a:t>
                </a:r>
                <a:r>
                  <a:rPr b="0" lang="en-US" sz="10400" spc="-1" strike="noStrike">
                    <a:solidFill>
                      <a:srgbClr val="2d2525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depression_dot_w_bug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590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Treatment of Depress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525"/>
                </a:solidFill>
                <a:latin typeface="Times New Roman"/>
              </a:rPr>
              <a:t>Use of anti-depressants and psychotherapy are recommended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7" name="depression_2_dot_w_ladybug1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4327560"/>
          </a:xfrm>
          <a:prstGeom prst="rect">
            <a:avLst/>
          </a:prstGeom>
          <a:ln w="0">
            <a:noFill/>
          </a:ln>
        </p:spPr>
      </p:pic>
      <p:pic>
        <p:nvPicPr>
          <p:cNvPr id="128" name="zoloft_log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648320"/>
            <a:ext cx="335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47:13Z</dcterms:created>
  <dc:creator>spulka</dc:creator>
  <dc:description/>
  <dc:language>en-US</dc:language>
  <cp:lastModifiedBy>spulka</cp:lastModifiedBy>
  <dcterms:modified xsi:type="dcterms:W3CDTF">2004-03-29T11:55:34Z</dcterms:modified>
  <cp:revision>4</cp:revision>
  <dc:subject/>
  <dc:title>Mood Disorders</dc:title>
</cp:coreProperties>
</file>